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462-A016-47DD-AD65-549D2E09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84C-0247-476C-80C9-4A20AD57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5A0-9DBB-4805-BA43-8D546F51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9CA-7FFE-4D54-B28F-B51390EF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7781-70D8-48CA-ABEB-D2C35855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B636-6969-4989-94CD-8D75B59E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2719-223C-4B6D-9EFA-48079D40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DB68-66DE-4A6B-8C58-AACA224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B4C1-43D4-4762-82A2-66CD3122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28EF-51DF-4733-BF71-33BFE5BC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C54C-D51E-40E5-8556-F17635BA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914-8534-468F-8F00-0F1A94BE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B47D-EB4C-4495-89FB-EA46F66C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8183-929B-409C-8EE7-2E83907F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7AE9-E842-45CD-9596-22EE3274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1F6E-80D7-4760-8581-7F1C6776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B25C-1A7B-40A6-9EC6-017C508F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828-95C8-47A9-BD22-16397953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954-229F-442E-A46E-96A72415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BAA-1320-46DA-B8D1-00DAFEBD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D54-B900-4E74-9C23-B577E837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0A0-CB4F-4DB7-9D53-933F8AC5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6AE-BD7E-4789-8C67-3DFC85F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918-79E7-4EF7-8E27-51BF519C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CB89-F99D-42B9-A2B3-D2BA5D7C96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F0B6-66A1-426A-9BF6-E4AEEAB451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447920" y="685800"/>
            <a:ext cx="6324480" cy="29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emlich Maneu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: kashae W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ok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king is the body’s way of trying to remove a foreign objec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4495680" cy="3597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uses of Choking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ting (especially eating and laughing at the same time, eating too fast, and failing to chew food well enough.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cohol and drug consumption (even a small amount affects awareness.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uma to the head and face (bleeding can cause choking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all objects swallowed by children (beads, toy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4295880"/>
            <a:ext cx="1904760" cy="1838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81280" y="4343400"/>
            <a:ext cx="183672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781680" y="4419720"/>
            <a:ext cx="19814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Oxygen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out oxygen the brain can begin to die within 4 to 6 minutes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learning the Heimlich Maneuver-a simple life-saving technique-you may literally save the life of a choking victim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124080" cy="2498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imlich Maneuve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lifts the diaphragm and forces enough air from the lungs to remove the obstructi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19177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n Do I Use The Heimlich?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rson is grabbing the throat with the hand (the universal sign for choking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notice they are gagg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hear a weak ineffective cough, noisy breathing, or high-pitched soun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rson is starting to look blu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352680" cy="2683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Do The Heimlich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nd behind the choking person and wrap your arm around his or her wais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ce thumb side of the fist against middle of person’s abdomen just above the navel and well below the rib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s your fist into the person’s abdomen with quick, upward thrust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eat abdominal thrusts until the object is coughed u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2657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ways remember…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ing the expulsion of the object, keep the victim still and get medical help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ications can arise from the incident or from the measures that were tak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0" y="3965400"/>
            <a:ext cx="44956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mportant Notice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nformation is not intended to be a substitute for professional medical advice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icensed physician should be consulted for diagnosis and treatment of all medical condi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0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8:31Z</dcterms:created>
  <dc:creator>004student</dc:creator>
  <dc:description/>
  <dc:language>en-US</dc:language>
  <cp:lastModifiedBy>004student</cp:lastModifiedBy>
  <dcterms:modified xsi:type="dcterms:W3CDTF">2008-10-31T15:19:59Z</dcterms:modified>
  <cp:revision>5</cp:revision>
  <dc:subject/>
  <dc:title>.</dc:title>
</cp:coreProperties>
</file>